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F181-A6E5-4A72-86AA-4FD46D90E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D3E9-2FDB-4AFD-93AD-6C120E693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593F-B45B-4CB3-A5AB-799F77A69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6502-2207-4C89-ABD5-80DF52900C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073C-A067-496E-995A-676A10D7F9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7798-7F7C-412A-9CAE-EABBB1471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68CD-2AA1-440F-8EFF-7CA5BBA66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8F4E-2787-4EED-A5BA-1AAAAD753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D1EE-953E-4ADF-B693-FB2822FFA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A8E0-2DC2-4718-875C-557E13E5A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DD01-68B9-4121-A71A-974B0C837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309B5-A302-450D-802D-84C4F8A11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9BD7-2F99-45F3-A984-7D024F98B5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reedigitalphotos.net/images/Interiors_g380-Empty_Room_With_Gallery_p82136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esources.curriculum.org/secretariat/coplanning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7C90-A5C4-4026-9DEE-95FF437D34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Breakout 6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Connecting our Learning with Different Representation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tails – 36 km rac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rkers every twelfth of the route’s tota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water stations equally spaced along the way and the last is at the finish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year Rachel and Mark both ran 1/2 of the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 Rachel knows she ran 7/12 of the route because she counted the markers and stopped at the seventh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ran to the fifth wat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kilometres did they run and how much further did they run compared to las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85B4-FD2C-46EE-A861-0EEEF6887E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 Solu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mathematical learning to sh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E2C2-D70F-47F3-8786-8FB9C59A95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900057318.WMF"/>
          <p:cNvPicPr/>
          <p:nvPr/>
        </p:nvPicPr>
        <p:blipFill>
          <a:blip r:embed="rId1"/>
          <a:stretch/>
        </p:blipFill>
        <p:spPr>
          <a:xfrm>
            <a:off x="4876920" y="2286000"/>
            <a:ext cx="266364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instorm at your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thematics did we engage in as we solved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rategies surfaced in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solutions lead to emergent thinking about multiplication and division of fr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B3E8-A6E3-4C00-ADCA-C19BFD0F04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a number line an effective model for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models did you notice in the gallery wal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5238-4492-490C-B315-B9CF3E7413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 Questions con’t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engage students in a contextual problem that leads to multiplicative thinking as related to fractions and to considering division of fractions prior to teaching algorithms for these opera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or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B90C-924D-4990-B497-02180766D7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4A36-DDD8-462C-87E7-7F696FC114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419720" y="457200"/>
            <a:ext cx="4390920" cy="478152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609480" y="16765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from Cath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– Possible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D111-1DF7-48E1-A068-E56852E7C1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86736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– Possible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09B6-85B9-4967-B07B-BC9823723F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16292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7822-8856-46E4-A90D-2479F95326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94368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42AC-8428-496F-9D4F-ADB984F244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2857680" cy="2533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419720" y="304920"/>
            <a:ext cx="4257720" cy="53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irthday Budd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 the people who have the same birthday month as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into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up a 0 – 4 number line and som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7F40-1363-4060-96E4-B9D76269ED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4CF9-A928-4785-B050-6C03E8E1AE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rdering and Compar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the following fractions on your number 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½,   ¾,   5/6,   3 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/4,   16/4,   15/5,    3 3/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6,   1 ½,   1 5/10,   2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4589-2365-4615-AEDE-7343416803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 / 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8EE3-494D-42E9-BA59-4BD090F13E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http://c95711.r11.cf3.rackcdn.com/Gallery_The_picture_blue_w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523880"/>
            <a:ext cx="5410080" cy="35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Preview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unpack key understandings about fr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address the continuum of learning that might exist in a Grade 6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the teacher’s questio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student representations and dialog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D5B7-6961-4FB1-9CC2-53DBEB50DE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MH900434799.JPG"/>
          <p:cNvPicPr/>
          <p:nvPr/>
        </p:nvPicPr>
        <p:blipFill>
          <a:blip r:embed="rId1"/>
          <a:stretch/>
        </p:blipFill>
        <p:spPr>
          <a:xfrm>
            <a:off x="4343400" y="16765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NS The Three Part Lesson in Mathematics; Supporting Stu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 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3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esources.curriculum.org/secretariat/coplannin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 The Classroo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ABA8-479E-42DF-923A-F5469358C8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unpack key understandings about fr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address the continuum of learning that might exist in a Grade 6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the teacher’s questio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notice about student representations and dialog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F183-0BAE-4143-AE21-E460CF9786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unning for Fun</a:t>
            </a:r>
            <a:br>
              <a:rPr sz="4400"/>
            </a:br>
            <a:r>
              <a:rPr b="0" lang="en-US" sz="2400" spc="-1" strike="noStrike">
                <a:solidFill>
                  <a:srgbClr val="2b5ca9"/>
                </a:solidFill>
                <a:latin typeface="Arial"/>
              </a:rPr>
              <a:t>Cathy Fosnot; </a:t>
            </a:r>
            <a:r>
              <a:rPr b="0" i="1" lang="en-US" sz="2400" spc="-1" strike="noStrike">
                <a:solidFill>
                  <a:srgbClr val="2b5ca9"/>
                </a:solidFill>
                <a:latin typeface="Arial"/>
              </a:rPr>
              <a:t>Contexts for Learning Mathematics</a:t>
            </a:r>
            <a:endParaRPr b="0" lang="en-US" sz="2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story problem to th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4B83-72A6-4C8E-9ADD-CF0648DCDC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MP900424397.JPG"/>
          <p:cNvPicPr/>
          <p:nvPr/>
        </p:nvPicPr>
        <p:blipFill>
          <a:blip r:embed="rId1"/>
          <a:stretch/>
        </p:blipFill>
        <p:spPr>
          <a:xfrm>
            <a:off x="3429000" y="2362320"/>
            <a:ext cx="4915080" cy="32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tails – 26 mile rac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rkers every twelfth of the route’s tota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water stations equally spaced along the way and the last is at the finish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year Rachel and Mark both ran 1/2 of the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 Rachel knows she ran 7/12 of the route because she counted the markers and stopped at the seventh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ran to the fifth wat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miles did they run and how much further did they run compared to las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0F63-EF6C-42DF-AEB8-11C4C04B54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Pat Milot</cp:lastModifiedBy>
  <dcterms:modified xsi:type="dcterms:W3CDTF">2012-07-12T21:01:34Z</dcterms:modified>
  <cp:revision>39</cp:revision>
  <dc:subject/>
  <dc:title>&lt;Title&gt;</dc:title>
</cp:coreProperties>
</file>